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BF7-DF03-4F8B-A281-7BE19F26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86E-34FA-4378-BA0F-E547B0A1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E52-93C5-44D8-BE4E-2CBE5B5E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DAA-BF2D-40C8-A26E-F64826AB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674-5574-452A-8356-055D76DA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2D9-EE0E-486F-8615-530A21BE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B4A-DAB5-46FA-9476-6706313C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13E-5950-4503-AE46-0BF7D0D5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BC8-F914-45F4-AD7E-5B30B2AA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43D-8570-4D77-8787-7049F341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978-1F5F-4F47-9C46-22E93899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2F8-C91C-49FF-98F9-5CEF47B0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88F9-F662-4752-8026-5FDEBDB74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4495680"/>
            <a:ext cx="571320" cy="50796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4089240"/>
            <a:ext cx="571320" cy="4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2000" y="2666880"/>
            <a:ext cx="2971800" cy="23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870280"/>
            <a:ext cx="16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CARTE DE GROUPE (Receveu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6480" y="276876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Mentions biologiques spé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62000" y="3276720"/>
            <a:ext cx="217188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33880" y="2666880"/>
            <a:ext cx="0" cy="60984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768760"/>
            <a:ext cx="399960" cy="5079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9240" y="3378240"/>
            <a:ext cx="18288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96600"/>
                </a:solidFill>
                <a:latin typeface="Times New Roman"/>
              </a:rPr>
              <a:t>PREMIERE DETERMINATION Nom et Adresse Laborato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aboratoire d’Analyses de Biologie Médicale VERDIER J.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 Rue Saint Laurent – 75005 PAR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62000" y="4089240"/>
            <a:ext cx="2971800" cy="914400"/>
          </a:xfrm>
          <a:prstGeom prst="rect">
            <a:avLst/>
          </a:prstGeom>
          <a:noFill/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2000" y="4597560"/>
            <a:ext cx="80028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62280" y="4089240"/>
            <a:ext cx="0" cy="91440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089240"/>
            <a:ext cx="0" cy="50832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1911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Chef de Laboratoi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05080" y="40892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996600"/>
                </a:solidFill>
                <a:latin typeface="Times New Roman"/>
              </a:rPr>
              <a:t>N° date examen </a:t>
            </a:r>
            <a:r>
              <a:rPr b="0" lang="fr-FR" sz="600" spc="-1" strike="noStrike">
                <a:solidFill>
                  <a:srgbClr val="000000"/>
                </a:solidFill>
                <a:latin typeface="Times New Roman"/>
              </a:rPr>
              <a:t>E1361               06-02-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597560"/>
            <a:ext cx="914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rélèvement effectué le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6.02.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ar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ARTH 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62280" y="4394160"/>
            <a:ext cx="120024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196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0520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910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91080" y="480060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91080" y="46990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91080" y="459756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91080" y="44956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33480" y="4394160"/>
            <a:ext cx="39996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591080" y="429264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33840" y="4089240"/>
            <a:ext cx="28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4920" y="4210200"/>
            <a:ext cx="30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089240"/>
            <a:ext cx="2412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Nég -       -      +      -      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07844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AB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080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089240"/>
            <a:ext cx="609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R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336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0500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808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94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2280" y="4383000"/>
            <a:ext cx="62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NOM Prénom        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RAPED Lydia            </a:t>
            </a: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Date Lieu de Naissance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 20.02.57 Pétror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987720"/>
            <a:ext cx="571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fr-FR" sz="900" spc="-1" strike="noStrike">
                <a:solidFill>
                  <a:srgbClr val="ffffff"/>
                </a:solidFill>
                <a:latin typeface="Times New Roman"/>
              </a:rPr>
              <a:t> Rh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  NEGATIF</a:t>
            </a:r>
            <a:r>
              <a:rPr b="1" lang="fr-FR" sz="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449568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L   NEGATIF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14880" y="4724280"/>
            <a:ext cx="571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.A.I. : Nég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47242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724280"/>
            <a:ext cx="0" cy="279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7242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5:40:17Z</dcterms:created>
  <dc:creator>Noël BELTRAMIN</dc:creator>
  <dc:description/>
  <dc:language>en-US</dc:language>
  <cp:lastModifiedBy>austin powers</cp:lastModifiedBy>
  <dcterms:modified xsi:type="dcterms:W3CDTF">2002-05-27T21:57:14Z</dcterms:modified>
  <cp:revision>6</cp:revision>
  <dc:subject/>
  <dc:title>Présentation PowerPoint</dc:title>
</cp:coreProperties>
</file>